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6.png" ContentType="image/png"/>
  <Override PartName="/ppt/media/image1.gif" ContentType="image/gif"/>
  <Override PartName="/ppt/media/image22.png" ContentType="image/png"/>
  <Override PartName="/ppt/media/image17.gif" ContentType="image/gif"/>
  <Override PartName="/ppt/media/image3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20.png" ContentType="image/png"/>
  <Override PartName="/ppt/media/image15.gif" ContentType="image/gif"/>
  <Override PartName="/ppt/media/image1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E81-DE03-47BB-BEE6-FAAE9D0A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42B-41D3-4C1F-85D2-EB497793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8C9-8F2F-4775-8618-5D373EC7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13A-3D60-4A1E-B37A-98AEBA37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430D0-F99E-4252-9A8D-4C456EB6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5C8F8-FEFC-40EE-BAE5-3B7C2367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F33B0-7881-4AF1-AEAC-F5D2F785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F26F7-25FE-461E-8EBE-D4F0215D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F2C1A-2ECA-441D-A884-DBA36D76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34FAE-2400-41D9-ADB7-4C759706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84FB5-4FCB-45D4-B1EB-159DE303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01E-00A3-4942-BFAE-55B61335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87A3B-F0BD-4373-ADC7-58104752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D9108-6673-4456-A83F-EE648BB5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2D242-47C8-41B5-B539-6A2C1915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75AA6-7B4C-4FE4-8FE4-68084B8C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D5850-EEDA-4D2A-9040-092602D8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CD2-91F7-4F40-8BE0-872A8FB2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5B4-CE92-4749-81DE-2CF9F32E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AAF-5951-4615-92D2-397A9B45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433-95D4-4424-9C91-CCFB6E28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B0F-EE5B-4CFF-88D6-2898A0F1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869-2E70-43AD-8940-60D50D26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396-A2A3-45B9-8020-7843266F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489C-3A5D-4676-AFED-1E728BD556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376C-7E24-4B25-9FF0-B6443C1ECB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" Target="slide25.xml"/><Relationship Id="rId15" Type="http://schemas.openxmlformats.org/officeDocument/2006/relationships/slide" Target="slide25.xml"/><Relationship Id="rId16" Type="http://schemas.openxmlformats.org/officeDocument/2006/relationships/slide" Target="slide25.xml"/><Relationship Id="rId17" Type="http://schemas.openxmlformats.org/officeDocument/2006/relationships/slide" Target="slide27.xml"/><Relationship Id="rId18" Type="http://schemas.openxmlformats.org/officeDocument/2006/relationships/slide" Target="slide28.xml"/><Relationship Id="rId19" Type="http://schemas.openxmlformats.org/officeDocument/2006/relationships/slide" Target="slide32.xml"/><Relationship Id="rId20" Type="http://schemas.openxmlformats.org/officeDocument/2006/relationships/slide" Target="slide34.xml"/><Relationship Id="rId21" Type="http://schemas.openxmlformats.org/officeDocument/2006/relationships/slide" Target="slide27.xml"/><Relationship Id="rId22" Type="http://schemas.openxmlformats.org/officeDocument/2006/relationships/slide" Target="slide28.xml"/><Relationship Id="rId23" Type="http://schemas.openxmlformats.org/officeDocument/2006/relationships/slide" Target="slide31.xml"/><Relationship Id="rId24" Type="http://schemas.openxmlformats.org/officeDocument/2006/relationships/slide" Target="slide32.xml"/><Relationship Id="rId25" Type="http://schemas.openxmlformats.org/officeDocument/2006/relationships/slide" Target="slide35.xml"/><Relationship Id="rId26" Type="http://schemas.openxmlformats.org/officeDocument/2006/relationships/slide" Target="slide34.xml"/><Relationship Id="rId2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4920" y="3428640"/>
            <a:ext cx="6048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ельно-обобщающий урок по теме «Электромагнитные волн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ркова Г.А. учитель физики Краснооктябрьской средней общеобразовательной школы Каргаполь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619280" y="981000"/>
            <a:ext cx="6337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вездная рега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417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етектирование – это преобразование модулированной волны  в волну звуковой част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 попали в сильно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равитационное пол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йтронной звез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можете выкарабкаться только после того, как пропустите 1 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25606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имо пролетает комета, ее маршрут совпадает с вашим. Вы решили сэкономить энергетические ресурсы, уцепившись за комету. Переход на 1 клетку вперед, если дадите ответ на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Что впервые использовал в приемнике А.С.Поп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С.Попов использова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антенну, зазем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916360" y="2492280"/>
            <a:ext cx="324468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Черная ды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ас перебросил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 3 клетки наз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Проверьте все бортовые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19640" y="4437000"/>
            <a:ext cx="2304720" cy="1481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36556" t="28120" r="15373" b="20625"/>
          <a:stretch/>
        </p:blipFill>
        <p:spPr>
          <a:xfrm>
            <a:off x="684360" y="549360"/>
            <a:ext cx="3816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 миновали сильное воздействие черной дыры. Вам повезло, но вы долж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исать формулу Томс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708360" y="400536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92360" y="2440080"/>
            <a:ext cx="5688000" cy="1789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59636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9653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  <a:path fill="darken" w="46303" h="21600">
                <a:moveTo>
                  <a:pt x="16145" y="3794"/>
                </a:moveTo>
                <a:lnTo>
                  <a:pt x="17808" y="3794"/>
                </a:lnTo>
                <a:lnTo>
                  <a:pt x="17808" y="17806"/>
                </a:lnTo>
                <a:lnTo>
                  <a:pt x="1614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Минута отдых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 собрались в кают-компании, старший пилот рассказывает интересные случаи из своих космических путешествий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Вам тоже надо рассказать  фантастическую истор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8716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ревога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дары засекли НЛО! Объект ведет себя агрессивно, требует сдаться. Вы уйдете, если ответите на вопрос, в противном случае попадаете в плен и пропускаете 2 ход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Назовите амплитуду и циклическую частоту волны, описываемой уравнением: 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I = 5cos10</a:t>
            </a:r>
            <a:r>
              <a:rPr b="0" lang="el-GR" sz="32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3" action="ppaction://hlinksldjump"/>
              </a:rPr>
              <a:t>π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4572000" y="476280"/>
            <a:ext cx="252108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Амплитуда равна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 5 A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Циклическая частота  - 10</a:t>
            </a:r>
            <a:r>
              <a:rPr b="0" lang="el-GR" sz="32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5" action="ppaction://hlinksldjump"/>
              </a:rPr>
              <a:t>π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6" action="ppaction://hlinksldjump"/>
              </a:rPr>
              <a:t> рад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аршрут рег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476360"/>
            <a:ext cx="8609040" cy="53816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26920" y="2781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1763640" y="306864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2916360" y="3213000"/>
            <a:ext cx="71280" cy="7164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709">
                <a:moveTo>
                  <a:pt x="0" y="0"/>
                </a:moveTo>
                <a:lnTo>
                  <a:pt x="21600" y="0"/>
                </a:lnTo>
                <a:lnTo>
                  <a:pt x="21600" y="21709"/>
                </a:lnTo>
                <a:lnTo>
                  <a:pt x="0" y="21709"/>
                </a:lnTo>
                <a:close/>
              </a:path>
              <a:path fill="lightenLess" w="21600" h="217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9">
                <a:moveTo>
                  <a:pt x="21600" y="0"/>
                </a:moveTo>
                <a:lnTo>
                  <a:pt x="21600" y="21709"/>
                </a:lnTo>
                <a:lnTo>
                  <a:pt x="20200" y="20309"/>
                </a:lnTo>
                <a:lnTo>
                  <a:pt x="20200" y="1400"/>
                </a:lnTo>
                <a:close/>
              </a:path>
              <a:path fill="darkenLess" w="21600" h="21709">
                <a:moveTo>
                  <a:pt x="21600" y="21709"/>
                </a:moveTo>
                <a:lnTo>
                  <a:pt x="0" y="21709"/>
                </a:lnTo>
                <a:lnTo>
                  <a:pt x="1400" y="20309"/>
                </a:lnTo>
                <a:lnTo>
                  <a:pt x="20200" y="20309"/>
                </a:lnTo>
                <a:close/>
              </a:path>
              <a:path fill="lighten" w="21600" h="21709">
                <a:moveTo>
                  <a:pt x="0" y="217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9"/>
                </a:lnTo>
                <a:close/>
              </a:path>
              <a:path fill="darken" w="21600" h="21709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2916360" y="3213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4140360" y="328464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5724360" y="31417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6732720" y="256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7" action="ppaction://hlinksldjump"/>
          </p:cNvPr>
          <p:cNvSpPr/>
          <p:nvPr/>
        </p:nvSpPr>
        <p:spPr>
          <a:xfrm>
            <a:off x="7236000" y="206064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8" action="ppaction://hlinksldjump"/>
          </p:cNvPr>
          <p:cNvSpPr/>
          <p:nvPr/>
        </p:nvSpPr>
        <p:spPr>
          <a:xfrm>
            <a:off x="6732720" y="155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9" action="ppaction://hlinksldjump"/>
          </p:cNvPr>
          <p:cNvSpPr/>
          <p:nvPr/>
        </p:nvSpPr>
        <p:spPr>
          <a:xfrm>
            <a:off x="5435640" y="148428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10" action="ppaction://hlinksldjump"/>
          </p:cNvPr>
          <p:cNvSpPr/>
          <p:nvPr/>
        </p:nvSpPr>
        <p:spPr>
          <a:xfrm>
            <a:off x="3708360" y="1628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11" action="ppaction://hlinksldjump"/>
          </p:cNvPr>
          <p:cNvSpPr/>
          <p:nvPr/>
        </p:nvSpPr>
        <p:spPr>
          <a:xfrm>
            <a:off x="2771640" y="2349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1979640" y="4005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3" action="ppaction://hlinksldjump"/>
          </p:cNvPr>
          <p:cNvSpPr/>
          <p:nvPr/>
        </p:nvSpPr>
        <p:spPr>
          <a:xfrm>
            <a:off x="1187280" y="4869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14" action="ppaction://hlinksldjump"/>
          </p:cNvPr>
          <p:cNvSpPr/>
          <p:nvPr/>
        </p:nvSpPr>
        <p:spPr>
          <a:xfrm>
            <a:off x="395280" y="5661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5" action="ppaction://hlinksldjump"/>
          </p:cNvPr>
          <p:cNvSpPr/>
          <p:nvPr/>
        </p:nvSpPr>
        <p:spPr>
          <a:xfrm>
            <a:off x="154764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3794" y="4900"/>
                </a:moveTo>
                <a:lnTo>
                  <a:pt x="17806" y="11906"/>
                </a:lnTo>
                <a:lnTo>
                  <a:pt x="3794" y="1891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16" action="ppaction://hlinksldjump"/>
          </p:cNvPr>
          <p:cNvSpPr/>
          <p:nvPr/>
        </p:nvSpPr>
        <p:spPr>
          <a:xfrm>
            <a:off x="270036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17" action="ppaction://hlinksldjump"/>
          </p:cNvPr>
          <p:cNvSpPr/>
          <p:nvPr/>
        </p:nvSpPr>
        <p:spPr>
          <a:xfrm>
            <a:off x="3995640" y="5084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8" action="ppaction://hlinksldjump"/>
          </p:cNvPr>
          <p:cNvSpPr/>
          <p:nvPr/>
        </p:nvSpPr>
        <p:spPr>
          <a:xfrm>
            <a:off x="5651640" y="5229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30" y="3794"/>
                </a:moveTo>
                <a:lnTo>
                  <a:pt x="17842" y="10800"/>
                </a:lnTo>
                <a:lnTo>
                  <a:pt x="383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rId19" action="ppaction://hlinksldjump"/>
          </p:cNvPr>
          <p:cNvSpPr/>
          <p:nvPr/>
        </p:nvSpPr>
        <p:spPr>
          <a:xfrm>
            <a:off x="7093080" y="522936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5621"/>
                </a:moveTo>
                <a:lnTo>
                  <a:pt x="17806" y="12627"/>
                </a:lnTo>
                <a:lnTo>
                  <a:pt x="3794" y="1963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20" action="ppaction://hlinksldjump"/>
          </p:cNvPr>
          <p:cNvSpPr/>
          <p:nvPr/>
        </p:nvSpPr>
        <p:spPr>
          <a:xfrm>
            <a:off x="810108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1" action="ppaction://hlinksldjump"/>
          </p:cNvPr>
          <p:cNvSpPr/>
          <p:nvPr/>
        </p:nvSpPr>
        <p:spPr>
          <a:xfrm>
            <a:off x="147636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2"/>
                </a:moveTo>
                <a:lnTo>
                  <a:pt x="17806" y="11788"/>
                </a:lnTo>
                <a:lnTo>
                  <a:pt x="3794" y="1879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22" action="ppaction://hlinksldjump"/>
          </p:cNvPr>
          <p:cNvSpPr/>
          <p:nvPr/>
        </p:nvSpPr>
        <p:spPr>
          <a:xfrm>
            <a:off x="270036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23" action="ppaction://hlinksldjump"/>
          </p:cNvPr>
          <p:cNvSpPr/>
          <p:nvPr/>
        </p:nvSpPr>
        <p:spPr>
          <a:xfrm>
            <a:off x="5651640" y="5229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30" y="3794"/>
                </a:moveTo>
                <a:lnTo>
                  <a:pt x="17842" y="10800"/>
                </a:lnTo>
                <a:lnTo>
                  <a:pt x="383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24" action="ppaction://hlinksldjump"/>
          </p:cNvPr>
          <p:cNvSpPr/>
          <p:nvPr/>
        </p:nvSpPr>
        <p:spPr>
          <a:xfrm>
            <a:off x="5651640" y="5229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30" y="3794"/>
                </a:moveTo>
                <a:lnTo>
                  <a:pt x="17842" y="10800"/>
                </a:lnTo>
                <a:lnTo>
                  <a:pt x="383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25" action="ppaction://hlinksldjump"/>
          </p:cNvPr>
          <p:cNvSpPr/>
          <p:nvPr/>
        </p:nvSpPr>
        <p:spPr>
          <a:xfrm>
            <a:off x="810108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26" action="ppaction://hlinksldjump"/>
          </p:cNvPr>
          <p:cNvSpPr/>
          <p:nvPr/>
        </p:nvSpPr>
        <p:spPr>
          <a:xfrm>
            <a:off x="7093080" y="522936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5621"/>
                </a:moveTo>
                <a:lnTo>
                  <a:pt x="17806" y="12627"/>
                </a:lnTo>
                <a:lnTo>
                  <a:pt x="3794" y="1963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5084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бегая от преследователей, вы попали в туманность Конская голова. Вышла из строя навигация. Дав верный ответ на вопрос, вы почините систе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при радиосвязи используются электромагнитные волны высокой часто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ны высокой частоты хорошо распространяются в простран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Этот сектор Вселенной все стараются избегать – придется ходить по «кругам ада». Если дадите все верные ответы, имеете право внеочередного хода. Если хотя бы один круг не пройден, право хода отдается другой коман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ctr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Чем создается ЭМ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ctr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азовите вид ЭМ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ctr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Как вычислить скорость вол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ctr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Что такое амплитуда колеба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ctr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арисуйте колебательный конту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7667640" y="6093000"/>
            <a:ext cx="1081080" cy="576000"/>
          </a:xfrm>
          <a:custGeom>
            <a:avLst/>
            <a:gdLst>
              <a:gd name="textAreaLeft" fmla="*/ 37080 w 1081080"/>
              <a:gd name="textAreaRight" fmla="*/ 1044000 w 1081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529" h="21600">
                <a:moveTo>
                  <a:pt x="0" y="0"/>
                </a:moveTo>
                <a:lnTo>
                  <a:pt x="40529" y="0"/>
                </a:lnTo>
                <a:lnTo>
                  <a:pt x="40529" y="21600"/>
                </a:lnTo>
                <a:lnTo>
                  <a:pt x="0" y="21600"/>
                </a:lnTo>
                <a:close/>
              </a:path>
              <a:path fill="lightenLess" w="40529" h="21600">
                <a:moveTo>
                  <a:pt x="0" y="0"/>
                </a:moveTo>
                <a:lnTo>
                  <a:pt x="40529" y="0"/>
                </a:lnTo>
                <a:lnTo>
                  <a:pt x="39129" y="1400"/>
                </a:lnTo>
                <a:lnTo>
                  <a:pt x="1400" y="1400"/>
                </a:lnTo>
                <a:close/>
              </a:path>
              <a:path fill="darken" w="40529" h="21600">
                <a:moveTo>
                  <a:pt x="40529" y="0"/>
                </a:moveTo>
                <a:lnTo>
                  <a:pt x="40529" y="21600"/>
                </a:lnTo>
                <a:lnTo>
                  <a:pt x="39129" y="20200"/>
                </a:lnTo>
                <a:lnTo>
                  <a:pt x="39129" y="1400"/>
                </a:lnTo>
                <a:close/>
              </a:path>
              <a:path fill="darkenLess" w="40529" h="21600">
                <a:moveTo>
                  <a:pt x="40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29" y="20200"/>
                </a:lnTo>
                <a:close/>
              </a:path>
              <a:path fill="lighten" w="40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29" h="21600">
                <a:moveTo>
                  <a:pt x="16765" y="10800"/>
                </a:moveTo>
                <a:lnTo>
                  <a:pt x="27271" y="3794"/>
                </a:lnTo>
                <a:lnTo>
                  <a:pt x="27271" y="17806"/>
                </a:lnTo>
                <a:close/>
              </a:path>
              <a:path fill="darken" w="40529" h="21600">
                <a:moveTo>
                  <a:pt x="13258" y="3794"/>
                </a:moveTo>
                <a:lnTo>
                  <a:pt x="14920" y="3794"/>
                </a:lnTo>
                <a:lnTo>
                  <a:pt x="14920" y="17806"/>
                </a:lnTo>
                <a:lnTo>
                  <a:pt x="13258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 попали в систему звезды Бернарда и нашли на одной из планет цивилизац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Расскажите аборигенам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как приемник выбирает нужную радиостан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084720" y="4437000"/>
            <a:ext cx="27352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В приемном колебательном контуре изменяется емкость конденсатора или индуктивность катушки, а следовательно и его частот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7667640" y="6165720"/>
            <a:ext cx="73080" cy="71640"/>
          </a:xfrm>
          <a:custGeom>
            <a:avLst/>
            <a:gdLst>
              <a:gd name="textAreaLeft" fmla="*/ 4320 w 73080"/>
              <a:gd name="textAreaRight" fmla="*/ 68760 w 730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2032" h="21600">
                <a:moveTo>
                  <a:pt x="0" y="0"/>
                </a:moveTo>
                <a:lnTo>
                  <a:pt x="22032" y="0"/>
                </a:lnTo>
                <a:lnTo>
                  <a:pt x="22032" y="21600"/>
                </a:lnTo>
                <a:lnTo>
                  <a:pt x="0" y="21600"/>
                </a:lnTo>
                <a:close/>
              </a:path>
              <a:path fill="lightenLess" w="22032" h="21600">
                <a:moveTo>
                  <a:pt x="0" y="0"/>
                </a:moveTo>
                <a:lnTo>
                  <a:pt x="22032" y="0"/>
                </a:lnTo>
                <a:lnTo>
                  <a:pt x="20632" y="1400"/>
                </a:lnTo>
                <a:lnTo>
                  <a:pt x="1400" y="1400"/>
                </a:lnTo>
                <a:close/>
              </a:path>
              <a:path fill="darken" w="22032" h="21600">
                <a:moveTo>
                  <a:pt x="22032" y="0"/>
                </a:moveTo>
                <a:lnTo>
                  <a:pt x="22032" y="21600"/>
                </a:lnTo>
                <a:lnTo>
                  <a:pt x="20632" y="20200"/>
                </a:lnTo>
                <a:lnTo>
                  <a:pt x="20632" y="1400"/>
                </a:lnTo>
                <a:close/>
              </a:path>
              <a:path fill="darkenLess" w="22032" h="21600">
                <a:moveTo>
                  <a:pt x="22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32" y="20200"/>
                </a:lnTo>
                <a:close/>
              </a:path>
              <a:path fill="lighten" w="22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32" h="21600">
                <a:moveTo>
                  <a:pt x="7517" y="10800"/>
                </a:moveTo>
                <a:lnTo>
                  <a:pt x="18022" y="3794"/>
                </a:lnTo>
                <a:lnTo>
                  <a:pt x="18022" y="17806"/>
                </a:lnTo>
                <a:close/>
              </a:path>
              <a:path fill="darken" w="22032" h="21600">
                <a:moveTo>
                  <a:pt x="4010" y="3794"/>
                </a:moveTo>
                <a:lnTo>
                  <a:pt x="5672" y="3794"/>
                </a:lnTo>
                <a:lnTo>
                  <a:pt x="5672" y="17806"/>
                </a:lnTo>
                <a:lnTo>
                  <a:pt x="401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 понравились местным жителям, и они решили отпустить вас, если вы расскажете и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кто и как получил ЭМ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Г.Герц с помощью открытого колебательного кон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987640" y="2924280"/>
            <a:ext cx="3168720" cy="2703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rcRect l="49271" t="20466" r="38185" b="60831"/>
          <a:stretch/>
        </p:blipFill>
        <p:spPr>
          <a:xfrm>
            <a:off x="468360" y="1413000"/>
            <a:ext cx="1224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космосе вы встретили инопланетный корабль. Вам нужно войти в контак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Что будете дел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203640" y="4724280"/>
            <a:ext cx="252072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 членов команды ностальгия, неуверенность в положительном исходе регаты. Команда успокоится, если капитан ответит на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Какой ученый предсказал существование электромагнитных вол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жеймс Клерк Максве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(1831 - 187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222720" y="328464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ключайте автопил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Это у вас получится, если дадите ответ на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определить длину волны радиостан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ортовой компьютер информирует об истощении запасов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ни будут восстановлены, если вы скаже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 какой скоростью распространяются электромагнитные вол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о скоростью с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300 000 км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ы обнаружили на пути объект, позволяющий перемещаться с гиперскоростью. Подключиться к нему вы сможете, ес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назовете дату демонстрации первой беспроводной передачи информации в Росс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мая 1895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892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Перемещаетесь в точку 21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аш корабль обстрелян, имеются повреждения, нужно сменить курс для починки узлов звездол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Вы возвращаетесь на 2 клетки 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следний рывок, надо выйти из гиперпространства. Ответ на вопрос приведет вас к финиш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Кто впервые использовал ЭМВ для передачи информа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Александр Степанович Поп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(1859 - 19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156120" y="3068640"/>
            <a:ext cx="2847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ижущимися заряженными частиц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ереч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рость равна произведению длины волны на часто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мплитуда – наибольшее отклонение колеблющейся величины от положения равновес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ебательный конту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940360" y="5373720"/>
            <a:ext cx="15843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оздравляем с успешным завершением регаты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подготовке презентации были использованы материал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Большой энциклопедии Кирилла и Мефодия, 2001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2517840"/>
            <a:ext cx="5113440" cy="1847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5443" y="10800"/>
                </a:moveTo>
                <a:lnTo>
                  <a:pt x="25949" y="3794"/>
                </a:lnTo>
                <a:lnTo>
                  <a:pt x="25949" y="17806"/>
                </a:lnTo>
                <a:close/>
              </a:path>
              <a:path fill="darken" w="37885" h="21600">
                <a:moveTo>
                  <a:pt x="11936" y="3794"/>
                </a:moveTo>
                <a:lnTo>
                  <a:pt x="13598" y="3794"/>
                </a:lnTo>
                <a:lnTo>
                  <a:pt x="13598" y="17806"/>
                </a:lnTo>
                <a:lnTo>
                  <a:pt x="1193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рушение связ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вязь восстановится, если вы начертите схему простейшего детекторного прием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14954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хема детекторного приемн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400720" cy="38638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7596360" y="6093000"/>
            <a:ext cx="1079280" cy="57600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61" h="21600">
                <a:moveTo>
                  <a:pt x="16732" y="10800"/>
                </a:moveTo>
                <a:lnTo>
                  <a:pt x="27237" y="3794"/>
                </a:lnTo>
                <a:lnTo>
                  <a:pt x="27237" y="17806"/>
                </a:lnTo>
                <a:close/>
              </a:path>
              <a:path fill="darken" w="40461" h="21600">
                <a:moveTo>
                  <a:pt x="13224" y="3794"/>
                </a:moveTo>
                <a:lnTo>
                  <a:pt x="14887" y="3794"/>
                </a:lnTo>
                <a:lnTo>
                  <a:pt x="14887" y="17806"/>
                </a:lnTo>
                <a:lnTo>
                  <a:pt x="13224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удет включено гиперпространство, и вы на 2 клетки уйдете вперед, если дадите ответ на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связаны период и частота колеба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стота и период взаимно обратны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48097" t="48637" r="32684" b="30910"/>
          <a:stretch/>
        </p:blipFill>
        <p:spPr>
          <a:xfrm>
            <a:off x="1116000" y="3500280"/>
            <a:ext cx="3384720" cy="2667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80000" y="3753000"/>
            <a:ext cx="252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e3e3ff"/>
                </a:solidFill>
                <a:latin typeface="Arial"/>
              </a:rPr>
              <a:t>Область астероидов, </a:t>
            </a:r>
            <a:br>
              <a:rPr sz="3600"/>
            </a:br>
            <a:r>
              <a:rPr b="0" i="1" lang="en-US" sz="3600" spc="-1" strike="noStrike">
                <a:solidFill>
                  <a:srgbClr val="e3e3ff"/>
                </a:solidFill>
                <a:latin typeface="Arial"/>
              </a:rPr>
              <a:t>высокая опасность. 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Вы успешно ее ликвидируете, если ответите , что такое детектир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3050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1:38:48Z</dcterms:created>
  <dc:creator>Admin</dc:creator>
  <dc:description/>
  <dc:language>en-US</dc:language>
  <cp:lastModifiedBy>Admin</cp:lastModifiedBy>
  <dcterms:modified xsi:type="dcterms:W3CDTF">2009-10-26T05:23:45Z</dcterms:modified>
  <cp:revision>13</cp:revision>
  <dc:subject/>
  <dc:title>Слайд 1</dc:title>
</cp:coreProperties>
</file>