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AA1-73E9-49A5-8C97-1DB19E1A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0CB-9B07-40A4-9CE9-6E7CE052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256-B724-4A2D-B6C7-D774826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092-EECF-4B57-AF89-D4413FB6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F72-81EE-4FB6-A216-1DFB8232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283-D10D-4638-B598-2DF512DE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231-EE78-43D9-AD70-C51A972A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681-79DF-4523-9EF2-5E6FF7D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560-D1E9-4EAD-A5F7-ADC07F0E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80B-55E2-4109-AC4C-E21AE89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40C-9410-43CC-8065-03CF6EEF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EE9-4864-4DEC-89F8-6DF5724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164E-E849-4C22-97FF-AC4F3AD67A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comp-doctor.ru/eye/eye_upr.php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ff"/>
                </a:solidFill>
                <a:latin typeface="Monotype Corsiva"/>
              </a:rPr>
              <a:t>Гигиенические требования, предъявляемые к организации работы за компьютеро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597708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83280" y="5734080"/>
            <a:ext cx="396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Авторы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Учащиеся 9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Тригубова Т.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050240" y="0"/>
            <a:ext cx="2093760" cy="2492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4892760"/>
            <a:ext cx="1689120" cy="1965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Что мы узнали дополнительн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Если вы много работаете с клавиатурой, приобретите специальную подставку под запясть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готовьте шумозащитный экран, отделяющий рабочее место от системного блока, положите под системный блок шумозащитную проклад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лучшить условия труда поможет ионизация воздуха с помощью «Люстры Чижевского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плохо каждые 2-3 часа надевать дырчатые очки, которые снимают спазм глазных мыш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80000" y="5397480"/>
            <a:ext cx="1620720" cy="1460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Используемые материал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psi/psi.php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мпьютер и псих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articles/art_0005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лияние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электромагнитного из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hands/hands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уннельный синд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stress/stress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мпьютер и стре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index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мпьютер и 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ost/ost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мпьютер и позвоноч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eye/eye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защитить гл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eye/eye_upr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имнастика для г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http://comp-doctor.ru/sovet/sovet_pp3.php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к правильно сид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www.klyaksa.net</a:t>
            </a: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Гигиенические требования к персональным электронно-вычислительным машинам и организации работ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«Санитарно-эпидемиологические правила и норматив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Цель исследова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Выяснить, какие гигиенические требования предъявляются к организации работы за компьюте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3524040" cy="3598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675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В ходе проведения исследования был проведен опрос учащих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4968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Были заданы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Правильно ли организовано твое рабочее мес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Устаешь ли ты за компьютер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Болит ли у тебя спина, запясть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21440" y="2708280"/>
            <a:ext cx="3628800" cy="3673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Что мы выяснили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у 66% учащихся правильно расположены монитор и клавиатура , освещение не слишком яркое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Только 15% пожаловались на боли в спине, запястье, глаз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24% учащихся устают за компьюте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30640" y="1413000"/>
          <a:ext cx="4113360" cy="44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0640" y="1413000"/>
                    <a:ext cx="41133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Как улучшить условия труд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6040" y="1700280"/>
            <a:ext cx="60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Организация рабочего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2708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ресло пользова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ы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Системный б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Прин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Розетки электроп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19640" y="3017880"/>
            <a:ext cx="4824360" cy="3840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Правильное расположение учащегос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79800" cy="5300640"/>
          </a:xfrm>
          <a:prstGeom prst="rect">
            <a:avLst/>
          </a:prstGeom>
          <a:ln w="19080">
            <a:solidFill>
              <a:srgbClr val="00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81600" cy="5300640"/>
          </a:xfrm>
          <a:prstGeom prst="rect">
            <a:avLst/>
          </a:prstGeom>
          <a:ln w="19080">
            <a:solidFill>
              <a:srgbClr val="00ff00"/>
            </a:solidFill>
            <a:miter/>
          </a:ln>
        </p:spPr>
      </p:pic>
    </p:spTree>
  </p:cSld>
  <p:transition spd="med" advTm="10000"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Время работы за компьюте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3059280" cy="407664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95280" y="1628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Для дошкольников занятия на компьютере не должны превышать 7 минут в 5 лет, 10 минут в 6 лет. Для учащихся продолжительность занятий с компьютером не должна превыш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3429000"/>
          <a:ext cx="4319280" cy="2808000"/>
        </p:xfrm>
        <a:graphic>
          <a:graphicData uri="http://schemas.openxmlformats.org/drawingml/2006/table">
            <a:tbl>
              <a:tblPr/>
              <a:tblGrid>
                <a:gridCol w="2621160"/>
                <a:gridCol w="1698120"/>
              </a:tblGrid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-5 клас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-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-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8364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Не следует забывать о физических упражнениях, которые помогают сохранить хорошую работоспособность и предотвратить неблагоприятное воздействие компьютера. Некоторые из ни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Разминка для но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Сидя на стуле, установленном на расстоянии 50-60 см от стола, подвести  руки к плечам, ноги выпрямить и поставить пятками на пол – вдох. Согнуть ноги, руками обхватить голову и подтянуть к груди, напрячь мышцы живота – выдох. Упражнение повторить 3-4 р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Упражнение для паль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Сидя на стуле, руки согнуты в локтях, пальцы сжаты в кулак. Распрямить пальцы без напряжения. Согнуть пальцы в кулак – без напряжения. Повторить 8-10 ра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Упражнение для гл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Отвернитесь от монитора, закройте глаза и быстро 10 раз зажмурьтесь, не  размыкая век. Затем 10 раз интенсивно поморгайте, стараясь открывать и закрывать глаза с максимально возможной частотой и амплитудой. Круговые движения глаз, 6-8 кругов влево и вправо. Эти простые упражнения позволяют без ущерба для здоровья ежедневно использовать компьютер и предотвращают быстрое утомл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Сохрани своё здоров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соблюдение гигиенических требований ведёт 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2421000"/>
            <a:ext cx="2232000" cy="936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ллерг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589720"/>
            <a:ext cx="2232000" cy="936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нн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2349360"/>
            <a:ext cx="2232000" cy="9367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коли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5589720"/>
            <a:ext cx="2232000" cy="9363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гро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ыкидыш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 беременных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4005360"/>
            <a:ext cx="2232000" cy="93636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жи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005360"/>
            <a:ext cx="2232000" cy="9363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стеохондр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1080" y="2276640"/>
            <a:ext cx="2232000" cy="93636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Ухуд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37080" y="5661000"/>
            <a:ext cx="2232000" cy="93672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66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ару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сих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0"/>
          <a:srcRect l="6299" t="0" r="4040" b="0"/>
          <a:stretch/>
        </p:blipFill>
        <p:spPr>
          <a:xfrm>
            <a:off x="3564000" y="3429000"/>
            <a:ext cx="2016000" cy="193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9:21:26Z</dcterms:created>
  <dc:creator>1</dc:creator>
  <dc:description/>
  <dc:language>en-US</dc:language>
  <cp:lastModifiedBy>user</cp:lastModifiedBy>
  <dcterms:modified xsi:type="dcterms:W3CDTF">2013-05-11T04:12:45Z</dcterms:modified>
  <cp:revision>3</cp:revision>
  <dc:subject/>
  <dc:title>Гигиенические требования, предъявляемые к организации работы за компьютером</dc:title>
</cp:coreProperties>
</file>